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404800" cy="36576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2E4-B19E-4734-AD23-652114EE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19160" y="2114316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E30-D740-4038-B9A3-A7D3C19F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631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0AE-0D4D-4ABE-8A45-F09EBA71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0620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93240" y="853452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1916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360620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93240" y="21143160"/>
            <a:ext cx="1113012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056-1E49-41E8-99A4-D6DD7928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79F-6C9C-4CD8-A9D3-9F60DA12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B6AE-1B58-4B2D-86DC-72E20F54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442D-901F-4F81-AE42-69C5E8D4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887-25D7-4A7A-99A5-A71EAA53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19160" y="1465200"/>
            <a:ext cx="34566480" cy="282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01E-47EC-4BF8-9C3A-F470D7A6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E13-9999-4289-A652-7C938D5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31160" y="2114316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9DA-E93C-4AE9-96A0-0B424075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19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631160" y="8534520"/>
            <a:ext cx="1686816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19160" y="21143160"/>
            <a:ext cx="34566480" cy="11514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89480"/>
                <a:tab algn="l" pos="877896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58D-EEE3-42BA-9BEC-DF2995F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9160" y="1465200"/>
            <a:ext cx="34566480" cy="60962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877896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19160" y="8534520"/>
            <a:ext cx="34566480" cy="241394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marL="1644480" indent="-164448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3567240" indent="-137160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5486400" indent="-1096920">
              <a:spcBef>
                <a:spcPts val="3849"/>
              </a:spcBef>
              <a:buClr>
                <a:srgbClr val="000000"/>
              </a:buClr>
              <a:buFont typeface="Arial"/>
              <a:buChar char="•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7682040" indent="-1096920">
              <a:spcBef>
                <a:spcPts val="3849"/>
              </a:spcBef>
              <a:buClr>
                <a:srgbClr val="000000"/>
              </a:buClr>
              <a:buFont typeface="Arial"/>
              <a:buChar char="–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9875880" indent="-1096920">
              <a:spcBef>
                <a:spcPts val="3849"/>
              </a:spcBef>
              <a:buClr>
                <a:srgbClr val="000000"/>
              </a:buClr>
              <a:buFont typeface="Arial"/>
              <a:buChar char="»"/>
              <a:tabLst>
                <a:tab algn="l" pos="4389480"/>
                <a:tab algn="l" pos="877896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19160" y="33308640"/>
            <a:ext cx="89632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120560" y="33308640"/>
            <a:ext cx="121636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522360" y="33308640"/>
            <a:ext cx="8963280" cy="25398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89480"/>
                <a:tab algn="l" pos="8778960"/>
              </a:tabLst>
              <a:defRPr b="0" lang="en-US" sz="6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389480"/>
                <a:tab algn="l" pos="8778960"/>
              </a:tabLst>
            </a:pPr>
            <a:fld id="{25703315-040F-43FA-9C58-76F6B1572C90}" type="slidenum">
              <a:rPr b="0" lang="en-US" sz="6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38393640" cy="38606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You may delete all template items.  Do not use this color scheme.  It is for demo only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name 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Your institution name he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35458560"/>
            <a:ext cx="38393640" cy="1117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066680" y="436896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9735920" y="4368960"/>
            <a:ext cx="1759896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066680" y="1501128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19735920" y="26212680"/>
            <a:ext cx="1759896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19735920" y="15024240"/>
            <a:ext cx="17598960" cy="915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1066680" y="22453560"/>
            <a:ext cx="1759932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ctr">
            <a:noAutofit/>
          </a:bodyPr>
          <a:p>
            <a:pPr algn="ctr">
              <a:tabLst>
                <a:tab algn="l" pos="0"/>
                <a:tab algn="l" pos="4389480"/>
                <a:tab algn="l" pos="877896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9"/>
          <p:cNvSpPr/>
          <p:nvPr/>
        </p:nvSpPr>
        <p:spPr>
          <a:xfrm>
            <a:off x="1422360" y="5689440"/>
            <a:ext cx="16535520" cy="9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own text her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0"/>
          <p:cNvSpPr/>
          <p:nvPr/>
        </p:nvSpPr>
        <p:spPr>
          <a:xfrm>
            <a:off x="1422360" y="16332120"/>
            <a:ext cx="16713360" cy="79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own text here. You can change your font size to fit your own dat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1"/>
          <p:cNvSpPr/>
          <p:nvPr/>
        </p:nvSpPr>
        <p:spPr>
          <a:xfrm>
            <a:off x="1600200" y="23774400"/>
            <a:ext cx="16179840" cy="96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sert your text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2"/>
          <p:cNvSpPr/>
          <p:nvPr/>
        </p:nvSpPr>
        <p:spPr>
          <a:xfrm>
            <a:off x="20091240" y="5587920"/>
            <a:ext cx="168912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0166120" y="16346520"/>
            <a:ext cx="16713000" cy="11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text goes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19913760" y="27533520"/>
            <a:ext cx="17246520" cy="39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our references go he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4389480"/>
                <a:tab algn="l" pos="87789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0:30:49Z</dcterms:created>
  <dc:creator>Graphicsland/MakeSigns.com</dc:creator>
  <dc:description>This is a free template from MakeSigns.com to help you create the perfect scientific poster.</dc:description>
  <cp:keywords>scientific research template custom poster presentation symposium printing PowerPoint create design example sample download</cp:keywords>
  <dc:language>en-US</dc:language>
  <cp:lastModifiedBy>Adam Kohm</cp:lastModifiedBy>
  <dcterms:modified xsi:type="dcterms:W3CDTF">2013-05-14T21:41:12Z</dcterms:modified>
  <cp:revision>19</cp:revision>
  <dc:subject>Template For Scientific Poster Presentation</dc:subject>
  <dc:title>PowerPoint template for a scientific poster</dc:title>
</cp:coreProperties>
</file>